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9424-5DE0-4BF2-A107-573FC894A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3F8C-798E-46DE-8142-5C680583A0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AC19-D2AA-491A-ACD7-0B7682DE66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E0C7-E47C-44B1-85D4-6219CB7305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C734-1E94-452F-945A-26F77C5B1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2B1B-FD3A-4176-A0B3-E1B05CCD60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8492-9A27-44AA-8205-281E97B0D9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98A1-FD60-47EE-8DCB-0BE03D2FBD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AB73-980F-48D4-A851-133F6BF4D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78F1-3B52-4F0E-94BB-8ED8FDC173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266-AF85-4B3C-B05C-FACF865F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45C-4F3B-4A6C-94D7-107D20C7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7FD-53DB-4841-A333-DD6EC746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206-2308-40BB-9250-349667A6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8006-913B-4EAB-AE78-90327D0D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269E-7FE6-44D1-B732-D6BA691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3C02-BE45-4CF9-A8EF-A7288D16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1693-382F-46DC-8FD4-5ECC7406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DF27-CA80-4F8D-9E82-80E6A6A9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8673-E48A-4C75-8EB0-A5C43D7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416E-1FEA-427D-ACB5-08F7CC3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3A5-99C9-4067-95BA-6241E57E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909-DEEC-4FF3-836A-5D681CD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F844-FE8B-485F-8899-5BA2E68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487-2857-4AD2-9673-7792592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70BD-4847-47B8-947A-E7BE0E37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7F8E-CD3B-4117-AC00-FA20D8FB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72C-0AD9-4963-A51D-50F8F75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AFE-135E-4970-BB59-882813E2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E09-80F4-41A3-B912-EC54360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09B-99B8-46C8-B6A0-3D62C9FC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FF0-88C2-417A-9F37-401EF6B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F56-4FEF-4C50-82D7-836213B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0A9-2524-46C2-81CF-98AE010B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Picture 10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BB37-CB55-4C9D-A46E-6930967F6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2628-2196-4116-88D8-D0CDDA1429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Patterns of Evolution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Convergent an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Divergent Evolution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More examples: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convergent evolution"/>
          <p:cNvPicPr/>
          <p:nvPr/>
        </p:nvPicPr>
        <p:blipFill>
          <a:blip r:embed="rId1"/>
          <a:stretch/>
        </p:blipFill>
        <p:spPr>
          <a:xfrm>
            <a:off x="1295280" y="1523880"/>
            <a:ext cx="6535800" cy="3611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981080" y="54864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ntal Mammals: top 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upial Mammals: bottom 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Di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by which an ancestral species gives rise to a number of new species that are adapted to different environmental conditions and are less a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occurs when a species colonizes a new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known as adaptive rad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- Darwi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Fi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Brown bears and polar b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Di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diverg"/>
          <p:cNvPicPr/>
          <p:nvPr/>
        </p:nvPicPr>
        <p:blipFill>
          <a:blip r:embed="rId1"/>
          <a:stretch/>
        </p:blipFill>
        <p:spPr>
          <a:xfrm>
            <a:off x="2057400" y="1676520"/>
            <a:ext cx="51865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patterns of evolution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Co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wo species evolve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mutual evolutionary influence between two spe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cies have a symbiotic relationship (interaction between members of two populat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- Birds and f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Con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when DIFFERENT ORGANISMS that live in SIMILAR ENVIRONMENTS become more alike in appearance and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in the environment requires similar adaptations in unrelated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Con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819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 develop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ALOGOUS STRUCT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ame function, but different “construction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- Bird wings/insect w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hark fins/dolphin f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igns of Di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05" name="Picture 2" descr="http://click4biology.info/c4b/5/images/5.4/homologousllimb.gif"/>
          <p:cNvPicPr/>
          <p:nvPr/>
        </p:nvPicPr>
        <p:blipFill>
          <a:blip r:embed="rId1"/>
          <a:stretch/>
        </p:blipFill>
        <p:spPr>
          <a:xfrm>
            <a:off x="0" y="1143000"/>
            <a:ext cx="5181480" cy="420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higheredbcs.wiley.com/legacy/college/levin/0471697435/chap_tut/images/le04_21.jpg"/>
          <p:cNvPicPr/>
          <p:nvPr/>
        </p:nvPicPr>
        <p:blipFill>
          <a:blip r:embed="rId2"/>
          <a:stretch/>
        </p:blipFill>
        <p:spPr>
          <a:xfrm>
            <a:off x="4572000" y="4457880"/>
            <a:ext cx="46674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rbssbiology11ilos.wikispaces.com/file/view/12-13-11-icr-071006-appendix.jpg/316567722/12-13-11-icr-071006-appendix.jpg"/>
          <p:cNvPicPr/>
          <p:nvPr/>
        </p:nvPicPr>
        <p:blipFill>
          <a:blip r:embed="rId3"/>
          <a:stretch/>
        </p:blipFill>
        <p:spPr>
          <a:xfrm>
            <a:off x="5429160" y="990720"/>
            <a:ext cx="3714840" cy="2752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457200" y="5638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LOGOUS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886360" y="39736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TIGIAL 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Homologous Body Structur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1" name="Picture 4" descr="ch17c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During Convergent Evolution Analogous Structures are seen 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304920" y="1981080"/>
            <a:ext cx="881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ogous structures are structures that have very different genetic origin, but they have very similar function.  Example Wings are a great adaptation, regardless of whether you are a bird, mammal, insect or dinosa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1523880" y="4038480"/>
            <a:ext cx="7010640" cy="2855520"/>
            <a:chOff x="1523880" y="4038480"/>
            <a:chExt cx="7010640" cy="2855520"/>
          </a:xfrm>
        </p:grpSpPr>
        <p:pic>
          <p:nvPicPr>
            <p:cNvPr id="115" name="Picture 2" descr="http://www.biologie.uni-hamburg.de/b-online/library/cat-removed/converg2.gif"/>
            <p:cNvPicPr/>
            <p:nvPr/>
          </p:nvPicPr>
          <p:blipFill>
            <a:blip r:embed="rId1"/>
            <a:stretch/>
          </p:blipFill>
          <p:spPr>
            <a:xfrm>
              <a:off x="1523880" y="4038480"/>
              <a:ext cx="48704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" descr="http://www.hdwallpapersinn.com/wp-content/uploads/2012/10/Blue_Morpho_Butterfly_Wings_by_Enchantedgal_Stock.jpg"/>
            <p:cNvPicPr/>
            <p:nvPr/>
          </p:nvPicPr>
          <p:blipFill>
            <a:blip r:embed="rId2"/>
            <a:stretch/>
          </p:blipFill>
          <p:spPr>
            <a:xfrm>
              <a:off x="6910920" y="4161960"/>
              <a:ext cx="1249560" cy="14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4"/>
            <p:cNvSpPr/>
            <p:nvPr/>
          </p:nvSpPr>
          <p:spPr>
            <a:xfrm>
              <a:off x="6541920" y="649512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ncestral Inse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Up Arrow 5"/>
            <p:cNvSpPr/>
            <p:nvPr/>
          </p:nvSpPr>
          <p:spPr>
            <a:xfrm>
              <a:off x="7279920" y="5744880"/>
              <a:ext cx="235080" cy="829440"/>
            </a:xfrm>
            <a:prstGeom prst="upArrow">
              <a:avLst>
                <a:gd name="adj1" fmla="val 50000"/>
                <a:gd name="adj2" fmla="val 46881"/>
              </a:avLst>
            </a:prstGeom>
            <a:solidFill>
              <a:srgbClr val="ffffff"/>
            </a:solidFill>
            <a:ln w="25560">
              <a:solidFill>
                <a:srgbClr val="00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610480" cy="2286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evolution can occur in competitive relationships, sometimes called evolutiona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894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8898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volution through natural selection is not random.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2743200" y="3265560"/>
            <a:ext cx="6194520" cy="3592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165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selection can have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ffects of natural selection add up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61048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gent evolution describes evolution toward different traits in closely related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2362320" y="2120760"/>
            <a:ext cx="3581280" cy="473724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9"/>
          <p:cNvGrpSpPr/>
          <p:nvPr/>
        </p:nvGrpSpPr>
        <p:grpSpPr>
          <a:xfrm>
            <a:off x="2899440" y="4038480"/>
            <a:ext cx="6219000" cy="1450080"/>
            <a:chOff x="2899440" y="4038480"/>
            <a:chExt cx="6219000" cy="1450080"/>
          </a:xfrm>
        </p:grpSpPr>
        <p:sp>
          <p:nvSpPr>
            <p:cNvPr id="127" name="Text Box 9"/>
            <p:cNvSpPr/>
            <p:nvPr/>
          </p:nvSpPr>
          <p:spPr>
            <a:xfrm>
              <a:off x="6167520" y="4800600"/>
              <a:ext cx="2950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How do convergent and divergent evolution illustrate the directional nature of natural selection?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2"/>
            <p:cNvSpPr/>
            <p:nvPr/>
          </p:nvSpPr>
          <p:spPr>
            <a:xfrm>
              <a:off x="3631320" y="4738680"/>
              <a:ext cx="866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ncesto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4393080" y="4038480"/>
              <a:ext cx="729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red fox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2899440" y="4038480"/>
              <a:ext cx="665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kit fox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3429000" y="4267080"/>
              <a:ext cx="6094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H="1">
              <a:off x="4038480" y="4267080"/>
              <a:ext cx="5335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2:05:00Z</dcterms:created>
  <dc:creator>Jack Elliott</dc:creator>
  <dc:description/>
  <dc:language>en-US</dc:language>
  <cp:lastModifiedBy>St. Aloysius</cp:lastModifiedBy>
  <cp:lastPrinted>2006-11-15T05:00:22Z</cp:lastPrinted>
  <dcterms:modified xsi:type="dcterms:W3CDTF">2014-05-12T16:02:47Z</dcterms:modified>
  <cp:revision>19</cp:revision>
  <dc:subject/>
  <dc:title>Patterns of Evolution: Convergent Evolution vs. Divergent Evolution</dc:title>
</cp:coreProperties>
</file>